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36B-D45C-47F1-8F39-9C369C83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741-58C6-46FD-AED4-3AC8875F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EE5-66ED-477A-BC6E-209F028C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521-BAC9-4B56-90CC-BA96B9AB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73C-14A7-410C-88F4-DADF256B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B98-F33D-4307-A948-3BA218C9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8B07-F18A-4DF8-8F72-65D737C1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EB3C-723F-49B0-8662-475BF26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4AEB-42E4-413B-87C6-F00BEEE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7D77-9866-4FB7-B77E-6304E50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280-7BEF-456D-AB63-AA6EFA5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733-D91D-4833-B30A-91A69BA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3CC-572E-4E9A-9240-4358921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5A5A-7543-4440-8F7C-75F2F67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1AE-7218-4CB7-B7B3-A41B890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691A-D617-4B30-B1A9-E7DDBD04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F130-0691-411B-B056-9E5D6A61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281-8401-49BF-A1DC-3CACB807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944-3A67-4A49-998D-A63FC10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B35-4699-4AF7-BAE6-C11267F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50F-14E8-40EF-979A-5953FC75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4CA-8B63-4EAB-82FE-8977259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36C-B5C7-4D66-829B-DD145EA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8E8-463E-4092-B57F-8B4CB6C1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2A4-414F-4D86-8000-ED8767DBBF6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4D1-B476-456D-918C-AE377039B3D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emp/Al%20Bayan%20research%20Gantt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: What is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Understanding Meaning of Researc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Research: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undamental/p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earch) advancement of knowledge and the theoretical understanding of the relations among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Researches (customer retentio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search (benchmarking, brand-positioning, omnibu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are more understandable for people not statistically 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better encompass personal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 the firs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understanding of psychological infl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y used to investigate an issue deeply with regards to relevant behaviour and 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for mass invest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used to have a complete picture of a person’s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 simple information on the incidence of attitudes, meanings and perceptions among th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numbers/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ead can be deadly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0  and answer to questions on page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2 and answer questions on page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and type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vs. Journ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e these characteristics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the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 enlighte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ruth, assertion, assump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cts or Opin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re and more women are deciding to give birth at home. A hospital, after all, is not the best place for a baby to 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 of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tudious,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systemati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quiry or examination, especially a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ritic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vestigation or experimentation having for its aim the discovery of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ew fac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orrect interpret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 the revision of accepted conclusions, theories, or laws in the light of new discovered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vs. Journa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systematic, sceptical, ethics, unbiased, argumentative, methodological, cares for needs/sensitivity/psychology of the participa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urn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writing having a main theme written by a person who saw the event or by a person who heard of the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ies of researcher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biased (strength and limitation of cultural perspectiv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ep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of facts, attitudes, opinions, beliefs, knowledge claim,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judge validity of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question/statements/assump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: desk research for secondar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: surveys/interviews for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i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ing/interpreting data (E.g. SPSS program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t.alnuimi</cp:lastModifiedBy>
  <dcterms:modified xsi:type="dcterms:W3CDTF">2008-08-07T10:41:24Z</dcterms:modified>
  <cp:revision>22</cp:revision>
  <dc:subject/>
  <dc:title>Course: Foundamentals of Research</dc:title>
</cp:coreProperties>
</file>